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9F3E-1ED6-47E2-B090-E0F718B82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5A75-2071-4E6E-B46D-2BFA4F0CF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AC98-27E4-4B78-8A7A-4FA7C465E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99E9-94B7-4AFC-855A-79BC6C616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138-6B5E-4BC8-919D-3F305DBFA2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96A-7618-4E6B-99F3-E5A6E7AB05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BC2C-BBAD-42A7-B480-8A0A5B26D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1A6E-EC59-413F-92BD-F7A10E787E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7BE-09F6-4CB4-8857-181BF92267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7BF-5D09-4619-92E1-379B878D6C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E8A-36BD-4FBC-82A7-A208A741A9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D61-04C6-4AA0-B66A-830609FDD4D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92D-8107-4D84-9853-685AA0F9C9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392-43E0-4E86-AEC7-121B9FB898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78C-731B-4638-9898-CEA5DFDDD6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D6A-B08E-420B-A6A3-0D1165A9A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8732880" y="0"/>
            <a:ext cx="183960" cy="6877080"/>
          </a:xfrm>
          <a:prstGeom prst="rect">
            <a:avLst/>
          </a:prstGeom>
          <a:solidFill>
            <a:srgbClr val="ffb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8702640" cy="9144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405480"/>
            <a:ext cx="4876920" cy="4608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1" descr="AVID_logo-spot.jpg"/>
          <p:cNvPicPr/>
          <p:nvPr/>
        </p:nvPicPr>
        <p:blipFill>
          <a:blip r:embed="rId2"/>
          <a:stretch/>
        </p:blipFill>
        <p:spPr>
          <a:xfrm>
            <a:off x="246240" y="5910120"/>
            <a:ext cx="1152360" cy="7462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1"/>
          <p:cNvSpPr/>
          <p:nvPr/>
        </p:nvSpPr>
        <p:spPr>
          <a:xfrm>
            <a:off x="-14400" y="914400"/>
            <a:ext cx="9180720" cy="76320"/>
          </a:xfrm>
          <a:prstGeom prst="rect">
            <a:avLst/>
          </a:prstGeom>
          <a:solidFill>
            <a:srgbClr val="ffb31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4916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6"/>
          <p:cNvSpPr/>
          <p:nvPr/>
        </p:nvSpPr>
        <p:spPr>
          <a:xfrm>
            <a:off x="7846920" y="6356520"/>
            <a:ext cx="8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32EC-B42F-4CE2-933E-9ECA23C79379}" type="slidenum">
              <a:rPr b="0" lang="en-US" sz="1800" spc="-1" strike="noStrike">
                <a:solidFill>
                  <a:srgbClr val="17375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9004320" y="0"/>
            <a:ext cx="13644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flipH="1">
            <a:off x="8702640" y="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5"/>
          <p:cNvSpPr/>
          <p:nvPr/>
        </p:nvSpPr>
        <p:spPr>
          <a:xfrm flipH="1">
            <a:off x="8891640" y="324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9004320" y="0"/>
            <a:ext cx="13644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8732880" y="0"/>
            <a:ext cx="183960" cy="6877080"/>
          </a:xfrm>
          <a:prstGeom prst="rect">
            <a:avLst/>
          </a:prstGeom>
          <a:solidFill>
            <a:srgbClr val="ffb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 flipH="1">
            <a:off x="8702640" y="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-14400" y="0"/>
            <a:ext cx="8656920" cy="581184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0" y="6475320"/>
            <a:ext cx="3517920" cy="4608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AVID_logo-spot.jpg"/>
          <p:cNvPicPr/>
          <p:nvPr/>
        </p:nvPicPr>
        <p:blipFill>
          <a:blip r:embed="rId2"/>
          <a:stretch/>
        </p:blipFill>
        <p:spPr>
          <a:xfrm>
            <a:off x="246240" y="5979960"/>
            <a:ext cx="1152360" cy="746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1"/>
          <p:cNvSpPr/>
          <p:nvPr/>
        </p:nvSpPr>
        <p:spPr>
          <a:xfrm flipH="1">
            <a:off x="8891640" y="324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-14400" y="5877000"/>
            <a:ext cx="9180720" cy="75960"/>
          </a:xfrm>
          <a:prstGeom prst="rect">
            <a:avLst/>
          </a:prstGeom>
          <a:solidFill>
            <a:srgbClr val="ffb31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3" descr="Picture2.jpg"/>
          <p:cNvPicPr/>
          <p:nvPr/>
        </p:nvPicPr>
        <p:blipFill>
          <a:blip r:embed="rId3"/>
          <a:stretch/>
        </p:blipFill>
        <p:spPr>
          <a:xfrm>
            <a:off x="98280" y="1784520"/>
            <a:ext cx="1913040" cy="1704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Picture3.jpg"/>
          <p:cNvPicPr/>
          <p:nvPr/>
        </p:nvPicPr>
        <p:blipFill>
          <a:blip r:embed="rId4"/>
          <a:stretch/>
        </p:blipFill>
        <p:spPr>
          <a:xfrm>
            <a:off x="2122560" y="1531800"/>
            <a:ext cx="4305240" cy="2602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Picture4.jpg"/>
          <p:cNvPicPr/>
          <p:nvPr/>
        </p:nvPicPr>
        <p:blipFill>
          <a:blip r:embed="rId5"/>
          <a:stretch/>
        </p:blipFill>
        <p:spPr>
          <a:xfrm>
            <a:off x="6550200" y="1859040"/>
            <a:ext cx="1979280" cy="1674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6"/>
          <p:cNvSpPr/>
          <p:nvPr/>
        </p:nvSpPr>
        <p:spPr>
          <a:xfrm>
            <a:off x="98280" y="4673520"/>
            <a:ext cx="841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AVID’s mission is to close the achievement gap by prepa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all students for college readiness and success in a global soci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8080200" y="6326280"/>
            <a:ext cx="4334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8732880" y="0"/>
            <a:ext cx="183960" cy="6877080"/>
          </a:xfrm>
          <a:prstGeom prst="rect">
            <a:avLst/>
          </a:prstGeom>
          <a:solidFill>
            <a:srgbClr val="ffb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0"/>
            <a:ext cx="8702640" cy="9144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0" y="6405480"/>
            <a:ext cx="4876920" cy="4608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AVID_logo-spot.jpg"/>
          <p:cNvPicPr/>
          <p:nvPr/>
        </p:nvPicPr>
        <p:blipFill>
          <a:blip r:embed="rId2"/>
          <a:stretch/>
        </p:blipFill>
        <p:spPr>
          <a:xfrm>
            <a:off x="246240" y="5910120"/>
            <a:ext cx="1152360" cy="746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-14400" y="914400"/>
            <a:ext cx="9180720" cy="76320"/>
          </a:xfrm>
          <a:prstGeom prst="rect">
            <a:avLst/>
          </a:prstGeom>
          <a:solidFill>
            <a:srgbClr val="ffb31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7846920" y="6356520"/>
            <a:ext cx="8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1E83-8F1F-460A-BBF4-9EF872BD1DAB}" type="slidenum">
              <a:rPr b="0" lang="en-US" sz="1800" spc="-1" strike="noStrike">
                <a:solidFill>
                  <a:srgbClr val="17375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9004320" y="0"/>
            <a:ext cx="13644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 flipH="1">
            <a:off x="8702640" y="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 flipH="1">
            <a:off x="8891640" y="324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9004320" y="0"/>
            <a:ext cx="13644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8732880" y="0"/>
            <a:ext cx="183960" cy="6877080"/>
          </a:xfrm>
          <a:prstGeom prst="rect">
            <a:avLst/>
          </a:prstGeom>
          <a:solidFill>
            <a:srgbClr val="ffb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 flipH="1">
            <a:off x="8702640" y="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0" y="0"/>
            <a:ext cx="8702640" cy="9144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0" y="6405480"/>
            <a:ext cx="4876920" cy="4608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" descr="AVID_logo-spot.jpg"/>
          <p:cNvPicPr/>
          <p:nvPr/>
        </p:nvPicPr>
        <p:blipFill>
          <a:blip r:embed="rId3"/>
          <a:stretch/>
        </p:blipFill>
        <p:spPr>
          <a:xfrm>
            <a:off x="246240" y="5910120"/>
            <a:ext cx="1152360" cy="746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1"/>
          <p:cNvSpPr/>
          <p:nvPr/>
        </p:nvSpPr>
        <p:spPr>
          <a:xfrm flipH="1">
            <a:off x="8891640" y="324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-14400" y="914400"/>
            <a:ext cx="9180720" cy="76320"/>
          </a:xfrm>
          <a:prstGeom prst="rect">
            <a:avLst/>
          </a:prstGeom>
          <a:solidFill>
            <a:srgbClr val="ffb31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8732880" y="0"/>
            <a:ext cx="183960" cy="6877080"/>
          </a:xfrm>
          <a:prstGeom prst="rect">
            <a:avLst/>
          </a:prstGeom>
          <a:solidFill>
            <a:srgbClr val="ffb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0" y="0"/>
            <a:ext cx="8702640" cy="9144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6405480"/>
            <a:ext cx="4876920" cy="4608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AVID_logo-spot.jpg"/>
          <p:cNvPicPr/>
          <p:nvPr/>
        </p:nvPicPr>
        <p:blipFill>
          <a:blip r:embed="rId2"/>
          <a:stretch/>
        </p:blipFill>
        <p:spPr>
          <a:xfrm>
            <a:off x="246240" y="5910120"/>
            <a:ext cx="1152360" cy="746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1"/>
          <p:cNvSpPr/>
          <p:nvPr/>
        </p:nvSpPr>
        <p:spPr>
          <a:xfrm>
            <a:off x="-14400" y="914400"/>
            <a:ext cx="9180720" cy="76320"/>
          </a:xfrm>
          <a:prstGeom prst="rect">
            <a:avLst/>
          </a:prstGeom>
          <a:solidFill>
            <a:srgbClr val="ffb31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7846920" y="6356520"/>
            <a:ext cx="8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9D0F-043C-432D-8F1D-4D58C8342D93}" type="slidenum">
              <a:rPr b="0" lang="en-US" sz="1800" spc="-1" strike="noStrike">
                <a:solidFill>
                  <a:srgbClr val="17375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9004320" y="0"/>
            <a:ext cx="13644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 flipH="1">
            <a:off x="8702640" y="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 flipH="1">
            <a:off x="8891640" y="324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2"/>
          </p:nvPr>
        </p:nvSpPr>
        <p:spPr>
          <a:xfrm>
            <a:off x="4916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1DE5-4BDF-47B3-AE45-7659FCDD04B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00200" y="233280"/>
            <a:ext cx="7380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TJHS AVID 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69880" y="6102000"/>
            <a:ext cx="4343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375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677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Welcome to AVID 9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Pe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ID Electiv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nd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lorado State University – B.A. Econom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iversity OF Phoenix  - M.A. Org. Mgm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ropolitan State College of Denver - T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 am teaching AVID because college is the difference between you working to live and living to work; ‘living’ when you want, not when you c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292400" y="1908000"/>
            <a:ext cx="6827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1066680" y="52578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1990, more than 85,500 AVID students have graduated from high school and planned to attend colle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914400" y="1315800"/>
            <a:ext cx="686736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er 30 years, AVID has become one of the most successful college-preparatory programs for low-income, underserved students, and today reaches more than 400,000 students in approximately 4,500 schools in 47 states and 16 other countries/territo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95360" y="129960"/>
            <a:ext cx="75564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AVID: 30 Years of Suc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6"/>
          <p:cNvSpPr/>
          <p:nvPr/>
        </p:nvSpPr>
        <p:spPr>
          <a:xfrm>
            <a:off x="685800" y="1739880"/>
            <a:ext cx="7391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18960" indent="-318960">
              <a:lnSpc>
                <a:spcPts val="2999"/>
              </a:lnSpc>
              <a:buClr>
                <a:srgbClr val="c0504d"/>
              </a:buClr>
              <a:buSzPct val="60000"/>
              <a:buFont typeface="Wingdings 2" charset="2"/>
              <a:buChar char="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tructured, college preparatory system working directly with schools and distri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100000"/>
              </a:lnSpc>
              <a:buClr>
                <a:srgbClr val="c0504d"/>
              </a:buClr>
              <a:buSzPct val="60000"/>
              <a:buFont typeface="Wingdings 2" charset="2"/>
              <a:buChar char="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ts val="2999"/>
              </a:lnSpc>
              <a:buClr>
                <a:srgbClr val="c0504d"/>
              </a:buClr>
              <a:buSzPct val="60000"/>
              <a:buFont typeface="Wingdings 2" charset="2"/>
              <a:buChar char="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direct support structure for first-generation college goers, grades 4-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100000"/>
              </a:lnSpc>
              <a:buClr>
                <a:srgbClr val="c0504d"/>
              </a:buClr>
              <a:buSzPct val="60000"/>
              <a:buFont typeface="Wingdings 2" charset="2"/>
              <a:buChar char="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ts val="2999"/>
              </a:lnSpc>
              <a:buClr>
                <a:srgbClr val="c0504d"/>
              </a:buClr>
              <a:buSzPct val="60000"/>
              <a:buFont typeface="Wingdings 2" charset="2"/>
              <a:buChar char="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choolwide approach to curriculum and rigor adopted by more than 4,500 schools in 47 states and 16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100000"/>
              </a:lnSpc>
              <a:buClr>
                <a:srgbClr val="c0504d"/>
              </a:buClr>
              <a:buSzPct val="60000"/>
              <a:buFont typeface="Wingdings 2" charset="2"/>
              <a:buChar char="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ts val="2999"/>
              </a:lnSpc>
              <a:buClr>
                <a:srgbClr val="c0504d"/>
              </a:buClr>
              <a:buSzPct val="60000"/>
              <a:buFont typeface="Wingdings 2" charset="2"/>
              <a:buChar char="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professional development program providing training throughout the wor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533520" y="1522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What is AV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1"/>
          <p:cNvSpPr/>
          <p:nvPr/>
        </p:nvSpPr>
        <p:spPr>
          <a:xfrm>
            <a:off x="609480" y="763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ts val="26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VID Closes the Achievement G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ts val="26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for AL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1752480" y="5486400"/>
            <a:ext cx="5797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VID Center. AVID Senior Data Collection. Study of 22,210 AVID Seniors, [Electronic Database]. (2009 - 201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anhattan Institute, Education Working Paper 3. 2003. Greene, J.P., Forster, G. "Public High School Graduation and College Readiness Rates in the U.S.“  (The most recent national data available.)  *Filipino and Other not classified in Manhattan Institute stud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AVID Data.png"/>
          <p:cNvPicPr/>
          <p:nvPr/>
        </p:nvPicPr>
        <p:blipFill>
          <a:blip r:embed="rId1"/>
          <a:stretch/>
        </p:blipFill>
        <p:spPr>
          <a:xfrm>
            <a:off x="228600" y="1219320"/>
            <a:ext cx="81072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"/>
          <p:cNvSpPr/>
          <p:nvPr/>
        </p:nvSpPr>
        <p:spPr>
          <a:xfrm>
            <a:off x="685800" y="2717640"/>
            <a:ext cx="7391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VID's mission is to close the achievement gap by preparing all students for college readiness and success in a global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60948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The Mission of AV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677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What Does AVID Mean to You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vancement Via Individual De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es AVID mean to you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dvancement Via Individual Determina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s take a look at AVID (Video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8:06:06Z</dcterms:created>
  <dc:creator/>
  <dc:description/>
  <dc:language>en-US</dc:language>
  <cp:lastModifiedBy/>
  <dcterms:modified xsi:type="dcterms:W3CDTF">2016-09-06T13:25:18Z</dcterms:modified>
  <cp:revision>1</cp:revision>
  <dc:subject/>
  <dc:title>2011 General Overview Final 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">
    <vt:lpwstr>2</vt:lpwstr>
  </property>
  <property fmtid="{D5CDD505-2E9C-101B-9397-08002B2CF9AE}" pid="3" name="ContentTypeId">
    <vt:lpwstr>0x010100EE47D9CE58209D45B437522AC270C22A</vt:lpwstr>
  </property>
</Properties>
</file>